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667-EC64-4895-8C6E-05D1D17C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DE6-52A8-49A2-BB05-AE4D2D2B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5F8-989A-42D0-B187-CC3BD52F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F97-9E6F-43CC-9C91-CD3C3AF8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E07F-456E-4C7A-9086-5B63F4E0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440-8773-47BD-A467-713A3A6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88D-3621-4CA0-9C8C-AD268C7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FC0F-0CA5-4F29-835B-C6B3402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2A3-B22F-4F65-800B-52C683B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412B-9DFE-4839-87FF-27A5EFA8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687C-3FC8-4C3A-9704-64F5D344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686-A581-4FB8-A1DA-1B4AC70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6511-5E4C-4674-AA8D-C6EF5B28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461-8330-4772-BFF8-3F9DC8F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068-7E7D-46EF-AAF3-1C2BF3F6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708E-1726-4864-87EB-DCA520C4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332A-5191-4AB4-9627-97ED661D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CF9-CDBF-4C2D-86D8-663C2DE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A22-F125-4D1D-A15C-C297DCB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7D6-F544-446B-AB16-DC3FDCA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579-7BD6-4BA6-866E-EFDE7116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63A-421F-460C-BA90-6FC7B69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985-2922-49A9-B086-2786C38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BFC-793E-4F58-AC4C-AE04738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C66F-0755-4C18-B02F-B0722345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9B54-64E4-4FF1-874E-3802957B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13.4:  America Moves Toward War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33360" y="35809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nited States enters WWII due to aggression in Europe and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viet Milit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Picture 4" descr="Soviet troops in winter clothing advance during Zhukov's counteroffensive"/>
          <p:cNvPicPr/>
          <p:nvPr/>
        </p:nvPicPr>
        <p:blipFill>
          <a:blip r:embed="rId1"/>
          <a:stretch/>
        </p:blipFill>
        <p:spPr>
          <a:xfrm>
            <a:off x="-38160" y="1600200"/>
            <a:ext cx="921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Picture 4" descr="Well-equipped Siberians move towards the front"/>
          <p:cNvPicPr/>
          <p:nvPr/>
        </p:nvPicPr>
        <p:blipFill>
          <a:blip r:embed="rId1"/>
          <a:stretch/>
        </p:blipFill>
        <p:spPr>
          <a:xfrm>
            <a:off x="0" y="452520"/>
            <a:ext cx="9136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Planning for W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a postwar environment: economy, democracy, fre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sinks several US cargo ships = “shoot on sight policy by US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matter of time before US enters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*****************************************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erman Wolf Pack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of U-boats sinking British cargo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were US ships leased by Britain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Navy allowed to act in self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File:U9Submarine.jpg"/>
          <p:cNvPicPr/>
          <p:nvPr/>
        </p:nvPicPr>
        <p:blipFill>
          <a:blip r:embed="rId1"/>
          <a:stretch/>
        </p:blipFill>
        <p:spPr>
          <a:xfrm>
            <a:off x="1371600" y="4267080"/>
            <a:ext cx="4915080" cy="212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File:U-47s.jpg"/>
          <p:cNvPicPr/>
          <p:nvPr/>
        </p:nvPicPr>
        <p:blipFill>
          <a:blip r:embed="rId2"/>
          <a:stretch/>
        </p:blipFill>
        <p:spPr>
          <a:xfrm>
            <a:off x="4800600" y="1905120"/>
            <a:ext cx="43434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deki To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Hideki_Tojo.wmv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Japan Attacks the U.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’s goal to expand through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, to include pacific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responds to Japanese expansion of China w/ oil emba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deciphers military code re: attack but have no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earl_Harbor___The_Attack_Begins_asf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.  December 7, 19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warplanes launched from aircraft carriers; &gt;180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,500 casualties; 2400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declares war o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&amp; Italy declare war o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30680" y="1828800"/>
            <a:ext cx="90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ritimequest.com/misc_pages/pearl_harbor_slides/pearl_harbor_color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.  Moving away from Neutr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380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Neutrality Act of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nd carry”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w buy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ers for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ive GB old destroyers, they let us have military bases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270px-Central_america_%28cia%29"/>
          <p:cNvPicPr/>
          <p:nvPr/>
        </p:nvPicPr>
        <p:blipFill>
          <a:blip r:embed="rId1"/>
          <a:stretch/>
        </p:blipFill>
        <p:spPr>
          <a:xfrm>
            <a:off x="4952880" y="1981080"/>
            <a:ext cx="3953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.  Isolation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For and against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Freedom Commit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First Commit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to Defend America by Aiding the Al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Edging Towards W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for F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Freedo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mage:FDR in 1933.jpg"/>
          <p:cNvPicPr/>
          <p:nvPr/>
        </p:nvPicPr>
        <p:blipFill>
          <a:blip r:embed="rId1"/>
          <a:stretch/>
        </p:blipFill>
        <p:spPr>
          <a:xfrm>
            <a:off x="5094360" y="1676520"/>
            <a:ext cx="3754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.  “Arsenal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mocracy"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d and Lease 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ountries benefi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and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ighting Hi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ilw0207"/>
          <p:cNvPicPr/>
          <p:nvPr/>
        </p:nvPicPr>
        <p:blipFill>
          <a:blip r:embed="rId1"/>
          <a:stretch/>
        </p:blipFill>
        <p:spPr>
          <a:xfrm>
            <a:off x="5181480" y="0"/>
            <a:ext cx="369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.  Hitler attack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oviet Un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942- Feb ‘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3 million tro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iets use scorched- eart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wks = 6 mos due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ilw0259"/>
          <p:cNvPicPr/>
          <p:nvPr/>
        </p:nvPicPr>
        <p:blipFill>
          <a:blip r:embed="rId1"/>
          <a:stretch/>
        </p:blipFill>
        <p:spPr>
          <a:xfrm>
            <a:off x="4341960" y="380880"/>
            <a:ext cx="4802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04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z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icture 4" descr="&quot;Many men who had become separated from their units...&quot;"/>
          <p:cNvPicPr/>
          <p:nvPr/>
        </p:nvPicPr>
        <p:blipFill>
          <a:blip r:embed="rId1"/>
          <a:stretch/>
        </p:blipFill>
        <p:spPr>
          <a:xfrm>
            <a:off x="1371600" y="1371600"/>
            <a:ext cx="7772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A German army column struggles through the mud, past a destroyed Soviet tank.  Nevel, Soviet Union, fall 1943."/>
          <p:cNvPicPr/>
          <p:nvPr/>
        </p:nvPicPr>
        <p:blipFill>
          <a:blip r:embed="rId1"/>
          <a:stretch/>
        </p:blipFill>
        <p:spPr>
          <a:xfrm>
            <a:off x="-25560" y="14400"/>
            <a:ext cx="916956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German troops walk by destroyed buildings in Zhitomir. Soviet Union, wartime."/>
          <p:cNvPicPr/>
          <p:nvPr/>
        </p:nvPicPr>
        <p:blipFill>
          <a:blip r:embed="rId1"/>
          <a:stretch/>
        </p:blipFill>
        <p:spPr>
          <a:xfrm>
            <a:off x="0" y="120600"/>
            <a:ext cx="9156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07T19:22:0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